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951-616D-4184-B78A-FC784C00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7C1-EA36-4627-8012-AFAAEFAC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84D-B977-4FDA-B42A-65C0CA57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F92-1914-44D4-822B-1C33738A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319-9E0C-4CFB-9128-839BD3FB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416-A964-466E-B2F0-142CAF05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F9B-0010-4FDD-B73C-1BD38512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F3C-EE0D-4A38-8763-9891701F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7D0F-9C1D-4017-BBFE-8D9475EF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B36-F6EB-4979-84D9-E18496D9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BFB-30DE-4D95-9DF9-EFCB0405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339-B75F-4D06-8C31-59A470E0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3908-1251-4A58-A7E8-778DC6EFD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vorite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ILY EV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Arial"/>
              </a:rPr>
              <a:t>ROLL TIDE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ilight is my Favorite Boo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603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Gre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5105520"/>
            <a:ext cx="8077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Papyrus"/>
              </a:rPr>
              <a:t>I really want to go to Santorini, Gree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4100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9:03:35Z</dcterms:created>
  <dc:creator>emilyevans</dc:creator>
  <dc:description/>
  <dc:language>en-US</dc:language>
  <cp:lastModifiedBy>emilyevans</cp:lastModifiedBy>
  <dcterms:modified xsi:type="dcterms:W3CDTF">2008-12-12T19:07:20Z</dcterms:modified>
  <cp:revision>2</cp:revision>
  <dc:subject/>
  <dc:title>My Favorite Things</dc:title>
</cp:coreProperties>
</file>